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F22D-6D7C-4979-9D9A-16EE6A2A2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: Tobacco and Pregnancy: Overview of Exposures and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nal-Child Nur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Study: EXPOSURE TO MARIJUANA DURING PREGNANCY ALTERS NEUROBEHAVIOR IN THE EARLY NEONATAL PERIOD  - Carvalho de Moraes Barros et 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Study: Prenatal Marijuana Exposure and Intelligence Test Performance at 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9D0-6365-4C3F-BCB4-2BAA0D66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718-9FAC-4445-80BA-8A3C5382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E9C-FF2D-4688-B9E7-08D98F3A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039-DEC8-45C0-99E6-F7061851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99E-FA06-4F5E-850B-3E9EFF45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05A-82FA-4511-BB35-75F4EA6A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9F9-E13D-4DC8-9425-67B3334A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B77-5281-495E-B86A-6144BAD3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FF3-C828-4BCD-8620-8E98C650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FF8-3426-461E-9286-D9A1B1EB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379-BD90-4535-AB16-A8310575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B64-EDFF-47FD-B8BD-E04BCA9A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D2B6-B44F-4A59-A621-A0788F159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obacco and Marijuana on the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bacco -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t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birth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infant death synd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development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behavio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risk for some types of can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hood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ijuana -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lear, more study needed, may be related to problems in mot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3:05:22Z</dcterms:created>
  <dc:creator>KG</dc:creator>
  <dc:description/>
  <dc:language>en-US</dc:language>
  <cp:lastModifiedBy>KG</cp:lastModifiedBy>
  <dcterms:modified xsi:type="dcterms:W3CDTF">2010-04-19T02:14:43Z</dcterms:modified>
  <cp:revision>9</cp:revision>
  <dc:subject/>
  <dc:title>Effects of Tobacco and Marijuana on the child</dc:title>
</cp:coreProperties>
</file>